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C4DB-9BAF-41DB-9C5A-3FC24A257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E8AC-3496-4EA3-9938-40190ABFF7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70C5-0DA2-4FE6-9151-4A784DFF25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9104-CC75-4DE9-86EF-114224A58B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5F9F-DB07-465B-824B-8549EBABB1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539C-B65C-472C-8069-3BFCC95737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DBC63-67C8-4054-AC57-BA607A5DFFE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D926-3E1C-4ED1-813E-16031EC16E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CDB55-F2C5-4835-AF90-107A6A7D304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C8C99-04DD-4A0A-9806-17AB0CE63E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3EF5-5019-42BE-8CCB-D864EFCC5F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16FE0-596E-41CA-A625-D493172F7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14B2-E816-4909-AFB9-482B7423C6A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0F417-9571-47FC-8DD6-23F19939D2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8E0E5-3480-49BB-AFBA-5B7A3C0DC8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E866C-9B39-408D-9443-26AB9D0DDC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48AB6-0C41-4190-8D23-698A5126D9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412B7-7F43-4595-A0A3-38F16549D8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B9184-6AB5-4A38-9AE7-3D57332426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889AF-6E35-4F1F-AA80-09E3B240B6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52578-2AC8-473D-8F13-FF27997965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6311B-8543-4B56-95C8-2C0E23477F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C7A1F-A2AB-4DE8-A1BD-211A5CFCB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4105-4D27-4557-B9C9-7C052590A5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707C4-698E-40DC-BAAC-C475177920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F84C9-62D8-4F00-BE55-CC4D4FE1E9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720E1-F9C7-4BCC-B456-5AB3C424A1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496CB7-1E6F-4F4B-8B99-A16C96161C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C30BF1-864C-40A6-B570-AA6ABBAB66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7CF046-8D06-4489-92FF-983484B061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88E93-5ED6-495F-9FD9-118A9D4898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0DDF77-B4D0-4914-AE33-DA15B8EF27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926D9F-1E6D-4510-B1A1-13FFD15B6A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F5F241-1D05-442D-B5F1-784DF0946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A8BDA-1BBD-4018-ACBA-E0ADB2F55B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C50119-8C7C-44C8-B118-2B74D160A4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73583-179A-4D19-B183-729901C128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FF09-EC82-4616-824E-A4E7BA4882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C791-DF50-4821-8787-440EAC6657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EBA5-D08C-4EF4-9DF0-6C998076EF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B7E45-39E3-44FB-A72D-6D87A885EF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5002-C79D-4ED6-9BAC-142D413909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EE27-A35C-4628-BF83-8658A9D4C78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F533-487C-41DC-880C-666AE734B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96C34-876D-4C43-A664-24726F2C4C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9FA5-EC60-43F8-847A-5AA2558E19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6C9E0-D6E8-4622-80C7-4AE5ED40C5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43FD-F340-42AF-BC14-9A8A38B24B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07CC-5416-4E98-B925-66ADE14CF8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0B1F-CDB6-46C7-BA71-B71C81E32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DB4-7792-478B-A959-1A8B294043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BCB-DEAA-483E-8420-391448CAE7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ACC-5691-46C0-88F6-8E3D162452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416-CAE5-4C44-97AD-A83D0010F0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AD1-D541-4CFC-A621-E15189A7D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C4C1-7959-42A5-9997-B03FBD2514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F69-7B27-44FB-96FF-51ACE7C3F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BF4-498A-4516-A7A8-1779BF2D7E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6B3-23DC-4D1A-A867-F712B5666B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2D5-2559-4CF7-90D0-771E5C09D9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900-B770-411B-A5C5-6EF9C756D9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25E-9BAE-4B56-89CE-F82F477E2C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FD6-A270-4C3F-812F-0442A34307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4D929-A48D-40C7-9969-D2D65A7298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6B21-066F-4147-8E03-6AE16682C9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3CC0-A7C9-4F13-9DD6-C0602F636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B457-1F4C-4D56-BC15-C2C08D98C5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8B4B0-0FE7-4984-9345-E762046906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8F40B-86DB-41DB-8DC4-D43BCA0A25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979F2-4EEC-4AB0-9601-9DE79B5CD5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77CD5-BF4F-4EE6-877E-DA0ADF6B38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E34D-F865-4A88-B850-3D9747977D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2825-4194-40C0-B092-6ECD01DC1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B5C9-EC8A-4B05-9B80-0E7B06C6F6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9133-A9F8-4CAC-990C-21E26ECCF6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4BAA-638A-4AAE-8428-BFF1F329BB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7B70C-7847-432B-BA9F-61E6790F9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6DB2-19BD-4736-90B2-16629FC8DA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45CD4-BA7B-4D1F-9E65-BDCFA1A550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D8C3C-002B-4D7D-822B-FF42C782F0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D4752-2B3A-4C8F-ADAF-B6C2ACC4FE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B010E-7047-4C00-80E0-FDE518980D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BF8B2-CBF7-4B1D-B5F3-B1ACF15C98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10A68-64C2-4323-A2E3-16DF469CBA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7BAD9-934D-4E45-A057-A2E59B3FEB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931A9-2876-4DB5-B41F-24D0DA75A3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A0EA8-5B7E-4395-ACC4-ECB9B8A503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B64CD-EF54-4849-907C-552B6350D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84B4-ABAA-409F-8114-C61256200F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85289-4BAB-4031-BDDB-7C87A28417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94CD-EB8C-439C-A118-DF92FE21E2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A1E5-F2EE-4FE2-8B26-D4C52F330B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1E40-914C-482D-B393-629484BF94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3140-26B2-49F7-A79C-BA5C763869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6272-D69D-4970-A8A2-F590E5B137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0BC6-7565-432F-BA3A-83C056E49F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84ED-F14B-4777-A936-D6692C4464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F0D1-24CC-487B-80BF-A918AA8F7B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F716-F441-4CB5-9E3C-DC606DAFF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29D2-F077-4F4D-B10F-07A9F161AB7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E217-C1A7-4B6D-9586-4BF4042D37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C33E-1713-4E01-B5F3-84B599079A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FE4D-A6DB-4D25-8720-DEA80E2DC5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D35B2-E064-4E48-A271-8441DDCF88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4387F-78A0-4D3A-B3F0-38146D35AA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72D10-5619-4FBF-A7A9-9D7C15D4C1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A4763-FE6A-4621-832F-84FCF58A97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7CAB9-F4F3-4D4C-93FD-A809071B91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23BAD-FED7-4391-8C18-F299DEC8C6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D275A-31A2-4B27-B2F2-447D1EA69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3C75-718E-45D5-98FE-63ABB51155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CB330-8E7D-4E60-8671-F74BDFD7EC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6CCA8-50A7-4B36-9E79-AAFF2D1079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E0D4F-07B6-48B0-98C7-4F10E6B6E8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8F3F8-DC71-4842-9F45-66134CDFB7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CD146-673C-49AD-AD37-06FB264C67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6A51A-DA47-4B45-857E-0C68A3CC6D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7C279-EA28-48DF-9C7F-964E046587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69D7C-2728-453F-9309-526F5C83B4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AACE3-E2DC-4CA0-B256-6A09C90ECE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BDADD-6392-48D7-9A87-7F885560C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3B65-B37D-4224-9AE1-C54C3D2493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CF6D3-9302-4CEF-9694-D8C85E66E3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AA65E-BF46-4760-859B-5F2CFC366F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B8B3F-1D00-4E1B-95DB-05133E3AA7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A443D3-BA00-4B8D-9164-B53AA4E39C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796EC-2BCF-4182-9FD1-5C734AA1E2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243FF-E3A9-458C-B749-623B8AC28B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8A253-3CDC-4065-9C16-1A831C6B84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A0FC-1F56-4F97-93C5-313995B42F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4170-F6A8-40DF-9BF4-EF1D1C87D8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CBA7-0914-4324-B777-DA0540ACF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21E0-AA82-41C0-B23C-D4CACFC8779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BEA-784D-49D8-A432-135A703525B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0EAE-4B95-4173-9439-2F617B9BE86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F7F-4F26-4E04-997C-F90547A24C5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ower Point Blend HORIZ GRAY copy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CC5-B50B-49D6-BA21-174C8256AA9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3E8-AB7E-40AE-93DF-CA13B53EAD0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5760-C001-43F7-96D3-0E3A3102971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187-9A45-47FE-B7CB-563CB8A3559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AB2-0787-4D2B-AD57-FE5F516036A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415A-79D5-4B3D-9396-B5204A16D41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DED-F08E-435F-9F04-632410EEFCA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eneral License Cour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on Plan Module 1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eneral Class License and Amateur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eneral License Cour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on Plan Module 3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Upgrade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0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cus on HF &amp; Advanced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ics we will be covering in this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effectively using SSB on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modes like PSK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ar effects on HF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instruments, such as the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electronic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ypes of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8BB-6F95-4990-97CA-A05E5BC5302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ing Process – The Ex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eneral exam usually takes 30 – 60 min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each question completely before answ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leave blank answers, there’s no penalty for wrong answ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iminate obvious wrong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526-54D4-41AE-9130-86FB3DC79E5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Ex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ect the “MOST” right answer. Math problems may need rounding to get the right answer. Watch decimal poi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s will grade and verify your test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1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6294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75C-3A83-44F9-B644-C6735098BCF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asons to Upg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communication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technical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fu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6705720" y="6324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B9F-6C0E-4819-910A-AF3E23A6D9D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eneral Class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qualify for a General class license, you must pass Elements 2 (Technician) and 3 (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echnician licensed before March 21, 1987, may upgrade to General by going to a test session with proof of being licensed before tha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IRED — beyond the 2-year grace period — General class license may be renewed after passing the Technician license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se code is alive and well on the Amateur bands, although it’s no longer required for any Amateur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ooter Placeholder 1"/>
          <p:cNvSpPr/>
          <p:nvPr/>
        </p:nvSpPr>
        <p:spPr>
          <a:xfrm>
            <a:off x="2666880" y="632448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2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9F9B-52B4-4D4F-96D9-1CE5307D7AE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eneral License Cour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on Plan Module 2 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Use this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book is designed to help you pass your Element 3 written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3 exam requires 74%, or 26 out of the 35 questions,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hapter and module contains a portion of those questions you ca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glossary and the complete question pool with answers are located in the back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Class License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BEA-FA4B-4810-94D8-8775C6F324A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actice Ex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Practice Ex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RRL web site has an online resource that allows users to take randomly generated practice exams using questions from the actual examination question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 Review for Ham Ra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 is free, and users do not need to be ARRL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y requirement is that users must first set up a site login (different and separate login from your ARRL website user regi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365B-7486-48F6-AC8E-1DF072F4D76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685800" y="1905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don’t have to be a technical guru or expert operator to upgrade t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dvanced mathematics background is required (use your calculator during the ex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ced students may be able to short circuit some of the modules and go to the test questions fo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k your instructor for help on topics you find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1CE-66B9-4EAC-AEBB-F0FFBF25CCB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the Question 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you complete each topic, review the exam question highlighted in the 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ractice exam on the ARRL’s web site can be reviewed by chapter or as a complete question p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ist the temptation to just memorize the questions and answ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fer back to the learning module for clarification on questions you are having difficulty wi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A3F-458B-4F93-9B25-8C67681852F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ventions and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ch for words 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tal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 they are important and you should understand them (many are included in the glo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ch for URLs like www.arrl.org/general-class-license-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the short sidebars for topics related to the overall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E19-C2FD-4C43-A55C-622FCF044C7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6:19:34Z</dcterms:created>
  <dc:creator>DSZLACHETKA</dc:creator>
  <dc:description/>
  <dc:language>en-US</dc:language>
  <cp:lastModifiedBy>linuxguru</cp:lastModifiedBy>
  <dcterms:modified xsi:type="dcterms:W3CDTF">2018-06-04T21:38:30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707</vt:lpwstr>
  </property>
</Properties>
</file>